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1456-EB79-4C2B-9CBD-5DCDA6F8FC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remember which part of Antarctica is nearest to another continent? Western – S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hings to you think they research? Biologists to research the seals, plants, penguins etc. Meteorologists to explore the weather – global warming, hole in the ozone, monitor the ice break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ides researchers what other jobs are people needed for in Antarctica? Cooks, doctors, nurses, technicians to maintain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on a base, can you think of the problems that might arise? Some getting sick  when they are iced in. 24 hours dark, no fresh food, severe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48E7-756E-478B-A062-A71FB71CF5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3E53-AD92-4C10-8EF0-8B4E71FAFB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tural greenhouse effect helps the Earth sta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a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get hotter.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oxygen in the air traps enough of the Sun’s heat to do this.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ays the same because animals breath it in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plants take i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2074-09DA-413D-8F8A-8C08F90600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AF68-D6F1-4236-84F9-7C55F3C207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hanced greenhouse effect helps the Earth stay warm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t hot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CO2 stays the same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cre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cause we are burning 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gle of the sun in the sky is very low at the poles so the sun’s heat has to warm up a bigger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lbedo of snow is about 90% - which means 90% of the heat is reflected straight back out into space – unlike the sea with an albedo of 15% - that means 85% od the sun’s heat is absorbed – this is why the N Pole is warming up quicker than Antarctic – altho the Western Peninsular surrounded by sea is warming up quicker – melting ice sheets most on tha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 air is clean – no specs of dust or pollution, or water vapour to trap and scatter reflected radiation — radiation that would warm the pola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re do CFCs fit in?– Chemicals called CFCs get up into the atmosphere and join with the extra oxygen atoms so ozone cannot be formed – this lets the UV light throug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CFCs so important? They do all sorts of job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igera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llants for aeroso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enerating foamed plastics like expanded polystyrene or polyurethane foa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solvents for dry cleaning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eneral degreasing purpo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 we had to find other chemicals to do the same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o bad about UV light? – causes skin cancer/ cataracts ad may harm other animals and the plants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t ever get better?  - Yes, because of the Montreal protocol the CFCs in the air should have broken down by 2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B4F4-8B3B-4E84-A2D1-06DA18C81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F78C-8E82-4BCF-8883-0AAC42DA2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CC79-A168-490B-A8D6-1A109F626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DDED-5326-4745-BED9-0B55C3519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FE513-F303-4E0C-A258-0C5D62691D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25CE-F8BD-4FAB-B6CD-B5D47E8CBE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6DAD-CDFA-406A-B568-0324C402F8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B552F-7CD0-45E7-B1B0-F5E0337F2E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4C2D-AC17-429E-981B-E7D255DD02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060FF-071F-45B5-8EA8-1AA7C71FE3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97031-F635-4AAA-B951-27BD3D0AAC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9A76-CFC3-4462-A903-53085613B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E8F1-6A9C-4D39-993E-672307032C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A0BA6-3F84-4AE8-9D73-97F6D3DB6C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D9DA-6D9A-49F3-BE9D-A0B9F187FA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9ECFD-4F57-4475-8AD3-5EF75C5645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48840"/>
            <a:ext cx="2782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2D16-1653-4FAF-A200-563945F64D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1E9C-9640-4744-A106-3851E6008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2929-3AB7-446E-853D-1BA9FDDE9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C4CD-9856-4A38-817A-6A7C6AA93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8920" y="102960"/>
            <a:ext cx="871380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97C1-2A38-431E-8A11-6658C2577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F7F5-D0DC-46AB-9DB6-DBD92C36A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4884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9D73-7150-4D8A-8A81-0690A19A4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948840"/>
            <a:ext cx="86421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D4AD-5EAE-4BF2-9B74-B2C6EF23F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3494-0ED3-4307-BC97-99A5C7825E04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344F-B191-4850-A1E6-3FC5D896767C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The last section of revision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The Antarctic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00838-93D7-4996-A1E2-C2B028F6BC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79640" y="2378160"/>
            <a:ext cx="7157880" cy="4435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547640" y="182520"/>
            <a:ext cx="7525080" cy="2525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89080" y="255420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vising Antarctic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429E-4961-42F6-82E0-C101E343B0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Treaty from 1961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Key ideas – any country can carry out scientific research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ll testing of nuclear weapons and the dumping of radioactive waste is forbidden in Antarctica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No military activities are allowed in Antarctica – the continent must be used for peaceful purposes only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aims to slices of Antarctica by individual countries are set aside so long as the Treaty exists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4D96-8225-4B72-9109-97FD096292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Treaty from 1961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 addition, there have been additions that protect the flora and fauna of Antarctica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 particular the Antarctic seals - both Ross and Antarctic fur seals are fully protected – the killing of other seals is tightly controlled – no hunting for skins of any type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onvention on the Conservation of Antarctic Marine Living Resources (1982) controls the amount of fishing that is allowed in Antarctic waters by giving licences to fish up to a certain agreed limit (a quota)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A06C-5832-4F23-9957-1BBC0609DE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Many countries have bases in Antarctica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s we know the only real justification is for scientific research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hat kind of things to you think they research?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esides researchers what other jobs are people needed for in Antarctica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f you were on a base, can you think of the problems that might arise, especially if you stay over the winter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EFCE-D7E6-4A95-BF0E-CB695819E8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Natural Greenhouse Effect at work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510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Earth is covered by a blanket of gas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energy from the Sun reaches the Earth’s surface, where some it is converted to heat energy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Most of the heat( blue arrows) is re-radiated towards space, but some is trapped by the greenhouse gases in the atmospher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natural effect allows the Earth’s temperature to be kept at a level necessary to support lif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227640" y="1268280"/>
            <a:ext cx="2714760" cy="500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EE45-D036-4F71-9D56-3025B0401C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he Natural Greenhouse Effect at work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3941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main Greenhouse Gas is Carbon Dioxide.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Until the last 200 years, the amount of CO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 has remained stable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is why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427640" y="1197000"/>
            <a:ext cx="4228920" cy="4676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0920" y="3624480"/>
            <a:ext cx="4098960" cy="2881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ey Ide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he natural greenhouse effect helps the Earth stay warm/get hotter. The carbon dioxide/oxygen in the air traps enough of the Sun’s heat to do this. The CO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stays the same because animals breath it in/out and plants take it in/ou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27E6-1EB2-4CA9-BB2A-726387E69E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But then there is the Enhanced Greenhouse Effect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42433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ook how this is different!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Much more of the heat from the sun gets trapped in the atmospher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o the Earth gets hotter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251320" y="1376280"/>
            <a:ext cx="303876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9E2C-0E35-4227-A62E-E512291833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y is more heat getting trapped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4313160"/>
            <a:ext cx="84042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e are taking the stored carbon from the ground (oil and coal and gas) and burning i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is releases the CO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and so the main greenhouse gas is increasing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195640" y="981000"/>
            <a:ext cx="4248000" cy="31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E790-390B-4A23-9E35-7E1D582E74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So these are the things that can happen if we increase the amount of greenhouses gases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11280" y="1821960"/>
            <a:ext cx="7705800" cy="2508480"/>
            <a:chOff x="611280" y="1821960"/>
            <a:chExt cx="7705800" cy="2508480"/>
          </a:xfrm>
        </p:grpSpPr>
        <p:sp>
          <p:nvSpPr>
            <p:cNvPr id="212" name=""/>
            <p:cNvSpPr/>
            <p:nvPr/>
          </p:nvSpPr>
          <p:spPr>
            <a:xfrm>
              <a:off x="2340000" y="2563920"/>
              <a:ext cx="3672000" cy="72072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99"/>
                  </a:solidFill>
                  <a:latin typeface="Verdana"/>
                </a:rPr>
                <a:t>Some places will be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1280" y="3406320"/>
              <a:ext cx="2232000" cy="708120"/>
            </a:xfrm>
            <a:prstGeom prst="cloudCallout">
              <a:avLst>
                <a:gd name="adj1" fmla="val 55819"/>
                <a:gd name="adj2" fmla="val -65851"/>
              </a:avLst>
            </a:prstGeom>
            <a:solidFill>
              <a:srgbClr val="ccffcc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wetter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4720" y="1821960"/>
              <a:ext cx="2232360" cy="708120"/>
            </a:xfrm>
            <a:prstGeom prst="cloudCallout">
              <a:avLst>
                <a:gd name="adj1" fmla="val -72472"/>
                <a:gd name="adj2" fmla="val 51166"/>
              </a:avLst>
            </a:prstGeom>
            <a:solidFill>
              <a:srgbClr val="ebf7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colder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43280" y="3622320"/>
              <a:ext cx="2232000" cy="708120"/>
            </a:xfrm>
            <a:prstGeom prst="cloudCallout">
              <a:avLst>
                <a:gd name="adj1" fmla="val 24097"/>
                <a:gd name="adj2" fmla="val -101013"/>
              </a:avLst>
            </a:prstGeom>
            <a:solidFill>
              <a:srgbClr val="ffe497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drier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0360" y="3188880"/>
              <a:ext cx="2232000" cy="708120"/>
            </a:xfrm>
            <a:prstGeom prst="cloudCallout">
              <a:avLst>
                <a:gd name="adj1" fmla="val -62513"/>
                <a:gd name="adj2" fmla="val -51726"/>
              </a:avLst>
            </a:prstGeom>
            <a:solidFill>
              <a:srgbClr val="ff9b9b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Windier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71640" y="1893600"/>
              <a:ext cx="2232000" cy="708120"/>
            </a:xfrm>
            <a:prstGeom prst="cloudCallout">
              <a:avLst>
                <a:gd name="adj1" fmla="val 55884"/>
                <a:gd name="adj2" fmla="val 32263"/>
              </a:avLst>
            </a:prstGeom>
            <a:solidFill>
              <a:srgbClr val="ead5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Hotter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09680" y="4718880"/>
            <a:ext cx="7988040" cy="10573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ey Ide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he enhanced greenhouse effect helps the Earth stay warm/get hotter. The CO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stays the same/increases because we are burning fossil fuel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6828-F179-4D91-B1D2-7C71B3A0A8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y is the Antarctic so cold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1558800"/>
            <a:ext cx="2737080" cy="891000"/>
          </a:xfrm>
          <a:prstGeom prst="wedgeRoundRectCallout">
            <a:avLst>
              <a:gd name="adj1" fmla="val -43546"/>
              <a:gd name="adj2" fmla="val 122976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angle of the sun in the sk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76720" y="1557360"/>
            <a:ext cx="2737080" cy="1286280"/>
          </a:xfrm>
          <a:prstGeom prst="wedgeRoundRectCallout">
            <a:avLst>
              <a:gd name="adj1" fmla="val -43532"/>
              <a:gd name="adj2" fmla="val 69777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albedo of snow is about 90%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3805200"/>
            <a:ext cx="2737080" cy="496440"/>
          </a:xfrm>
          <a:prstGeom prst="wedgeRoundRectCallout">
            <a:avLst>
              <a:gd name="adj1" fmla="val -43532"/>
              <a:gd name="adj2" fmla="val 164925"/>
              <a:gd name="adj3" fmla="val 16667"/>
            </a:avLst>
          </a:prstGeom>
          <a:solidFill>
            <a:srgbClr val="ead5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n air is cle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933720"/>
            <a:ext cx="3168720" cy="2399760"/>
          </a:xfrm>
          <a:prstGeom prst="cloudCallout">
            <a:avLst>
              <a:gd name="adj1" fmla="val 58754"/>
              <a:gd name="adj2" fmla="val -66541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o why do all these make it colder then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59DF-041D-4FED-A935-FE099A79F1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Summary of map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So Qu 1 is the map question – 15 marks –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All of Europe, in particular the EU countries – there are 25 of them, you will get 7 – of which 3 are likely to be sneaky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(the list of the countries are on the classwork sheet)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In addition the following other countries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875F-4656-4D41-8AF7-2765627B25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What is the ozone layer?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851040"/>
            <a:ext cx="3097080" cy="1286280"/>
          </a:xfrm>
          <a:prstGeom prst="wedgeRoundRectCallout">
            <a:avLst>
              <a:gd name="adj1" fmla="val -21157"/>
              <a:gd name="adj2" fmla="val 79291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zone is 3 atoms of oxygen joined togeth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907920"/>
            <a:ext cx="4176720" cy="1286280"/>
          </a:xfrm>
          <a:prstGeom prst="wedgeRoundRectCallout">
            <a:avLst>
              <a:gd name="adj1" fmla="val -20587"/>
              <a:gd name="adj2" fmla="val 80578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ozone layer is a layer high above the earth containing ozone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16360" y="2593800"/>
            <a:ext cx="4103640" cy="2076120"/>
          </a:xfrm>
          <a:prstGeom prst="wedgeRoundRectCallout">
            <a:avLst>
              <a:gd name="adj1" fmla="val -53166"/>
              <a:gd name="adj2" fmla="val 28620"/>
              <a:gd name="adj3" fmla="val 16667"/>
            </a:avLst>
          </a:prstGeom>
          <a:solidFill>
            <a:srgbClr val="ead5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ozone layer protects the earth from UV light from the Sun getting through - UV damages living tissu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2920" y="5075280"/>
            <a:ext cx="3168720" cy="1836360"/>
          </a:xfrm>
          <a:prstGeom prst="cloudCallout">
            <a:avLst>
              <a:gd name="adj1" fmla="val 10365"/>
              <a:gd name="adj2" fmla="val -86708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y are CFCs so important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2637000"/>
            <a:ext cx="3168360" cy="1272240"/>
          </a:xfrm>
          <a:prstGeom prst="cloudCallout">
            <a:avLst>
              <a:gd name="adj1" fmla="val 58759"/>
              <a:gd name="adj2" fmla="val -66291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o where do CFCs fit in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3933720"/>
            <a:ext cx="3168720" cy="1836360"/>
          </a:xfrm>
          <a:prstGeom prst="cloudCallout">
            <a:avLst>
              <a:gd name="adj1" fmla="val 58754"/>
              <a:gd name="adj2" fmla="val -71361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at is so bad about UV light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4200" y="4869000"/>
            <a:ext cx="2522880" cy="1836360"/>
          </a:xfrm>
          <a:prstGeom prst="cloudCallout">
            <a:avLst>
              <a:gd name="adj1" fmla="val 175"/>
              <a:gd name="adj2" fmla="val -86648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ill it ever get better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E6BD-8712-4893-9C2D-97519DAB47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516720" y="673200"/>
            <a:ext cx="2484360" cy="23954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What are the issues of human impact on Antarctica?</a:t>
            </a:r>
            <a:endParaRPr b="0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re are a lot of natural resourc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                            but so far no-one has shown inter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                                 in mining etc as it just too difficult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here is commercial fishing and                            there are pirates who are not obeying the rules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Flotsam is an issue as it is hurting the wildlife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ut waste/rubbish/oil are all tightly controlle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However tourism is a growing issue as more people want to visit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o sticking with tourism – what are the concerns?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68ED-88C6-4C47-8D12-F9F1826B67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Example – Antarctica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Factual: what is ozone? What chemical group destroy it? What damage does reduced ozone cause?  Etc or similar questions about global warming – or about why Antarctica is so col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Levelled question: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Explain the main points of the Antarctic treaty of 1961 – or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Explain the concerns about Antarctic tourism and suggest ways they could taken account of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7369-0D68-4A00-A600-763D62E8FD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372360" y="260280"/>
            <a:ext cx="2520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Abbreviation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Est – Estoni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Lat – Latvi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Lith - Lithuani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Belg – Belgium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Neth – Netherlands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Slov – Slovaki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Aust – Austri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Hung – Hungary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Bul – Bulgari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Port – Portuga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Comic Sans MS"/>
              </a:rPr>
              <a:t>Slo - Slovenia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3"/>
          <a:stretch/>
        </p:blipFill>
        <p:spPr>
          <a:xfrm>
            <a:off x="179280" y="189000"/>
            <a:ext cx="6248520" cy="645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C3EA-00B0-4B72-83D0-5267D50B41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rest of the lis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frica: Kenya, Egypt, South Africa, Nigeria, Zimbabwe, Sudan, Ethiopia, Somalia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uth/Central America: Mexico, Brazil, Argentina, Chile, Columbia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sia/ Australasia (or Oceania): Australia, New Zealand, China, India, Saudi Arabia, Iran, Iraq, Bangladesh and the Tiger economies – see over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You will get 8 of these – no sneaky ones just these!!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926B-B332-4920-8114-45C83DE556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Tiger economie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14560" y="838080"/>
            <a:ext cx="6913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8C62-0287-4692-8492-2B2B16A65D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se are where the countries are!!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1327320"/>
            <a:ext cx="8713800" cy="47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0D39-7F62-4B0C-8C74-C31E1E1E0F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other 3 question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50920" y="105264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I gave a hint about GCSE type questions – how they are ‘levelled’.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Level 1 ( 1 or 2 marks) – basic not explaine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Level 2 (3 or 4 marks) – with a bit of explanation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Level 3 (5 or 6) really well explained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So the general layout will be factual questions for qu2 - qu4 -  for 12 marks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Comic Sans MS"/>
              </a:rPr>
              <a:t>And 2 levelled qus from one the sections only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E421-0E1A-4C07-979D-10DEE7ABBC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Example – rocks and glaciation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Factual:  What are the labels on the diagram of the earth section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omplete this table using these words to fill in about types of rock and how they are formed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abel 3 items on the diagram of a glaciated upland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evelled question: as part of the process of forming sediments, rock is often weathered. Name all types of weathering and explain how 2 of them occur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Explain and give examples of how one agent of change alters the landscape by erosion, transportation and deposition. 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03DF-B7AF-433E-BBB9-4E6234C091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Example – working world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Factual:  Complete this table using these words to fill in about the different kinds of economic activity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hat are 2 factors that would influence the siting a of factory producing ….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n the UK, the number of people involved in secondary industry has halved between 1900 and 2000 – give 2 reasons for this.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Levelled question: What caused South Korea to be able to develop so fast? [or explains the poor (or adverse) consequences …. ]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16DC-235A-4024-86E5-0B79B844B4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4:32:13Z</dcterms:created>
  <dc:creator>Lindy</dc:creator>
  <dc:description/>
  <dc:language>en-US</dc:language>
  <cp:lastModifiedBy>Lindy</cp:lastModifiedBy>
  <dcterms:modified xsi:type="dcterms:W3CDTF">2009-06-13T15:10:17Z</dcterms:modified>
  <cp:revision>3</cp:revision>
  <dc:subject/>
  <dc:title>The last section of revi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